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E4C-C3B0-4756-9AA6-B5C4C188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8F8-D8F4-469E-A653-E052E8B8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085-7332-48B0-BF1D-64C2FDFB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1E1-2572-4059-8611-1B05D9B3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2E65-26A8-43AB-A522-EDF4E76E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0020-6557-4249-BB27-E8410B49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2A5D-2FF2-47A1-AA01-DC7624EB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6501-5D70-40BB-85C9-D254CE84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4C3D-14F6-41B7-9CBF-A6B3EB12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BD52-7BF2-4198-9FB1-F9D98E9D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05A9-CF9B-4630-ADE7-5EA73848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D8B-69D8-45DE-8C0A-7E29BEE5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4464-DBBF-410B-9B2E-35BF8033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0A69-FDF4-4FDF-B1B9-EA760CDA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3A2F-D981-4B01-B140-D7047031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119D-40DB-4FD4-8B86-C2134F89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9E25-6041-4821-B1D3-90B00D5D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D9BE1-C0BB-4799-B318-D9A14D23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E3E6-D6B7-4D1A-AE88-A41D830A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5AFE1-F061-4981-89D7-26B3447E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8011-7A30-4D85-91AD-39D35AB5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3D4F-0F74-42BE-A22F-E39A3FCD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C1D-F4C7-4F95-AAFF-F70D4701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867B-6837-4E4E-A24E-4C26B376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6AFD-FA31-424F-AE90-20B668DB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1260-1BA3-42F9-BA25-847035A6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DF3A-42D9-46CC-89E5-6A835A9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B380-5595-49A6-AF6B-A7A12109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B812-9BDD-4843-8ED2-819D8CA8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F8EB-FA5B-4023-ABE8-90F29075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FC96-1D2D-4A86-8684-FA63495A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932F-BCCB-4C2F-AD25-2D013C16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A90B8-AD72-4CE4-BF62-FD79EECC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2C3-8A61-41DE-9BD8-F9D7607C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53ED7-6608-475E-B7DD-60C9178A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20640-FE80-4171-9F72-2C03D85E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09787-2DC6-4A1D-8BAD-BF3C46CD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769D9-EBE1-4255-8897-61D8361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B4108-9A32-4A1E-B38A-E709E23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295A-BD3A-4229-83FB-C9DEFA6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34329-5AE9-44AC-B45D-8259F561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7117F-38D0-4D10-BF89-D6569D88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DAE0B-4F5C-4A16-B667-FBFE7E90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06CB2-D83F-4755-B0B6-2E762DE7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EF1-1BB5-4EDE-9B16-CF12D9A5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9302-8BA5-4EBF-B1F3-09A0DC1C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DFDFB-0B82-48D6-8D49-CFC236D1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93AF6-C155-4C59-BDE4-4600B1F3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4D8D7-705F-48F8-8D3F-96E9824A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8B53E-F751-4C22-B8AF-D5D81ACE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95BC-F9B0-4966-9449-EC29650B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7A217-BEC6-44E4-9CB5-3CB6DEE5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FB68-B31A-45B3-A53A-50A8C72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89283-EE9F-4325-9936-4DEE5293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5FADC-3148-40A1-B1CB-2E8A307D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A5D-6285-428B-AAE8-73A7CB86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F88DA-B068-4338-9A0E-4E394989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FD2-CFBB-47DB-B6D9-22BBAB7F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456-2CF2-4F98-816B-A1C7E33D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141-74D3-4722-A4D8-503F5372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5CDB9-A061-4BCB-BCA9-FAF0EACD8F6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5FFAE-2DB4-41B0-B6F7-CB9670668E2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92B2F-79A5-4726-BF0E-5563CB8FAB7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79661-8DCE-44AE-8D7C-1DE87410E32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4AC22-2039-464E-8765-100870A1783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689040" y="2438280"/>
            <a:ext cx="81532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ОСТОЯ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НУТРЕННЕГО МУНИЦИПАЛЬНОГО ФИНАНСОВОГО КОНТРОЛ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 Северо-Енисейском район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о итогам 2020 год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60948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Финансовое управление администрации Северо-Енисейского райо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2" descr="C:\Users\User3\Downloads\с-е анимация_files\s-e_coat.jpg"/>
          <p:cNvPicPr/>
          <p:nvPr/>
        </p:nvPicPr>
        <p:blipFill>
          <a:blip r:embed="rId1"/>
          <a:stretch/>
        </p:blipFill>
        <p:spPr>
          <a:xfrm>
            <a:off x="92160" y="115920"/>
            <a:ext cx="119376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3581280" y="60958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гп Северо – Енисейски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202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4"/>
          <p:cNvSpPr/>
          <p:nvPr/>
        </p:nvSpPr>
        <p:spPr>
          <a:xfrm>
            <a:off x="7010280" y="152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28600" y="457200"/>
          <a:ext cx="8763120" cy="5056200"/>
        </p:xfrm>
        <a:graphic>
          <a:graphicData uri="http://schemas.openxmlformats.org/drawingml/2006/table">
            <a:tbl>
              <a:tblPr/>
              <a:tblGrid>
                <a:gridCol w="609480"/>
                <a:gridCol w="6694560"/>
                <a:gridCol w="696960"/>
                <a:gridCol w="7621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беспечено качественное составление протоколов заседания комиссии по оценке результативности и качества деятельности работников, допущены нарушения в части отражения количества и размера стимулирующих выплат работни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блюдены нормы Положения об оплате труда в части того, что приказы об установлении стимулирующих выплат должны издаваться на основании протоколов заседания комиссии по оценке результативности и качества деятельности работник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существляется внутренний финансовый контроль за оформлением документов по оплате труда работников подведомственной с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беспечено качественное, основанное на сопоставимости мероприятий,   составление: плана работы учреждения, плана спортивно-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беспечено своевременное внесение изменений: в календарный план физкультурно-оздоровительных, спортивных мероприятий и мероприятий молодежной политики Северо-Енисейского района на 2020 год, в план работы учреждения, в план культурно-массовых и культурно-досуговых мероприятий структурных подраздел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беспечена разработка и утверждение документа (порядка), регламентирующего деятельность в системе мгновенного обмена текстовыми сообщениями  для мобильных и иных платформ WhatsApp (при осуществлении деятельности по исполнению плана работы с использованием WhatsApp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44"/>
          <p:cNvSpPr/>
          <p:nvPr/>
        </p:nvSpPr>
        <p:spPr>
          <a:xfrm>
            <a:off x="7083720" y="15228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2280" y="533520"/>
          <a:ext cx="8839440" cy="6084720"/>
        </p:xfrm>
        <a:graphic>
          <a:graphicData uri="http://schemas.openxmlformats.org/drawingml/2006/table">
            <a:tbl>
              <a:tblPr/>
              <a:tblGrid>
                <a:gridCol w="639720"/>
                <a:gridCol w="6740640"/>
                <a:gridCol w="696960"/>
                <a:gridCol w="7621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0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требований распоряжения администрации Северо-Енисейского района от 17.06.2020 № 949-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не внесены изменения в муниципальное задание на 2020 год и плановый период 2021 и 2022 год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не соблюдены требования в части необходимости пересмотра графика отпусков, планируемых к предоставлению в 2020 году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не обеспечено соблюдение превентивных мер, направленных на предупреждение распространения коронавирусной инфекции, вызванной 2019-nCoV в части ежедневного измерения температуры тела работник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не обеспечено своевременное определение перечня работников, не подлежащих переводу на дистанционный режим работы в связи с необходимостью их непосредственного участия в обеспечении непрерывных процессов, необходимых для обеспечения функционирования учрежд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приказа Министерства финансов Российского Федерации от 13.06.1995 № 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нанесены инвентарные номера на объекты уч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проведена инвентаризация объектов  незавершенного строитель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приказа Министерства финансов Российского Федерации от 30.12.2017 № 274н не разработан и не утвержден порядок проведения инвентаризации объектов незавершенного строительств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решения Северо-Енисейского районного Совета депутатов от 30.06.2010 № 51-7 необоснованно и неправомерно произведена работникам учреждения компенсация расходов связанная с переездом за пределы Северо-Енисейского район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18"/>
          <p:cNvSpPr/>
          <p:nvPr/>
        </p:nvSpPr>
        <p:spPr>
          <a:xfrm>
            <a:off x="7083720" y="15228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457200"/>
          <a:ext cx="8839440" cy="6267600"/>
        </p:xfrm>
        <a:graphic>
          <a:graphicData uri="http://schemas.openxmlformats.org/drawingml/2006/table">
            <a:tbl>
              <a:tblPr/>
              <a:tblGrid>
                <a:gridCol w="639720"/>
                <a:gridCol w="6740640"/>
                <a:gridCol w="696960"/>
                <a:gridCol w="7621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постановления администрации Северо-Енисейского района от 06.05.2011 № 216-п не обеспечено качественное издание приказов связанных с направлением работников в командировку и компенсацией расходов связанных с переездом за пределы Северо-Енисейского райо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в сфере закупок, предусмотренный законодательством Российской Федерации о контрактной системе в сфере закупок товаров, работ, услуг для обеспечения государственных и муниципальных нуж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положений Закона № 44-ФЗ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ания (расчеты) показателей бюджетной сметы казенного учреждения не соответствуют параметрам нормативных затрат, утвержденных администрацией Северо-Енисейского района для подведомственного казенного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подведомственного получателя бюджетных средств не изданы правовые акты, устанавливающие нормативные затраты на обеспечение фун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метры ряда планируемых закупок (общая сумма расходов на год), превысили параметры нормативных затрат на обеспечение функций, утвержденных в соответствии с частью 5 статьи 19 Закона № 44-Ф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планируемых закупок, не были предусмотрены нормативными затратами на обеспечение функций, утвержденными в соответствии с частью 5 статьи 19 Закона № 44-Ф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составлении отчета об объеме закупок у субъектов малого предпринимательства, социально ориентированных некоммерческих организаций в объеме закупок, которые осуществлены у субъектов малого предпринимательства не учтена закупка, которая осуществлена на основании пункта 25.1.части 1 статьи 93 Закона № 44-ФЗ по результатам несостоявшегося определения подрядчика, проведенного в соответствии с требованиями пункта 1 части 1статьи 30 Закона № 44-Ф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18"/>
          <p:cNvSpPr/>
          <p:nvPr/>
        </p:nvSpPr>
        <p:spPr>
          <a:xfrm>
            <a:off x="7083720" y="30492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2280" y="609480"/>
          <a:ext cx="8839440" cy="6005520"/>
        </p:xfrm>
        <a:graphic>
          <a:graphicData uri="http://schemas.openxmlformats.org/drawingml/2006/table">
            <a:tbl>
              <a:tblPr/>
              <a:tblGrid>
                <a:gridCol w="685800"/>
                <a:gridCol w="6694560"/>
                <a:gridCol w="696960"/>
                <a:gridCol w="7621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чете об объеме закупок у субъектов малого предпринимательства, социально ориентированных некоммерческих организаций указаны сведения, которые не соответствуют фактическим показател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 контракт с нарушением условий, предусмотренных документацией о закуп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направлено в адрес поставщика (подрядчика) требование об уплате пени, в связи с просрочкой исполнения обязательств, предусмотренных контрак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онтракт не включена информация о товаре (товарном знаке и (или) конкретных показателях товара, стране происхождения товара), указанных в заявке участника электронной процед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ышен допустимый предел по осуществлению закупок на основании пункта 4 части 1 статьи 93 Закона № 44-Ф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ышен допустимый предел по осуществлению закупок на основании пункта 5 части 1 статьи 93 Закона № 44-Ф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а приемка выполненных работ по документам о приемке, которые не оформлены надлежащим образ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ы приемки, подписанные приемочной комиссией не утверждены заказчик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товара произведена до осуществления приемки това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а приемка выполненных работ ранее, чем подрядчиком были внесены денежные средства в качестве обеспечения гарантийных обязательст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отсутствии оснований изменен срок исполнения кон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7"/>
          <p:cNvSpPr/>
          <p:nvPr/>
        </p:nvSpPr>
        <p:spPr>
          <a:xfrm>
            <a:off x="7010280" y="152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304920" y="457200"/>
          <a:ext cx="8610480" cy="5842080"/>
        </p:xfrm>
        <a:graphic>
          <a:graphicData uri="http://schemas.openxmlformats.org/drawingml/2006/table">
            <a:tbl>
              <a:tblPr/>
              <a:tblGrid>
                <a:gridCol w="761760"/>
                <a:gridCol w="6427800"/>
                <a:gridCol w="677880"/>
                <a:gridCol w="7430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а цена контракта (существенное условие контракта) по контрактам, заключенным с единственным исполнителем, в которых не была предусмотрена возможность изменения цены контрак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фициальном сайте единой информационной системы в сфере закупок в разделе «Дополнительная информация» не размещено решение об одностороннем отказе от исполнения контрак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фициальном сайте единой информационной системы в сфере закупок в реестре контрактов, заключенных заказчиками в карточке контракта размещена информация об исполнении (расторжении) контракта, при этом решение об одностороннем отказе от исполнения контракта не вступило в сил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2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воевременно направлены или не направлены для включения в реестр контрактов, заключенных заказчиками, информация и документы, указанные в части 2 статьи 103 Закона № 44-Ф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.2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по контракту осуществлена до размещения в реестре контрактов информации о заключении контрак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статьи 161 Бюджетного кодекса Российской Федерации, Приказа Министерства финансов Российской Федерации от 14.02.2018 № 26н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ы закупки товаров, необходимость приобретения которых не подтверждается обоснованиями (расчетами) плановых сметных показателей бюджетной сме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ания (расчеты) плановых сметных показателей, являющихся неотъемлемой частью бюджетной сметы ГРБС, не утверждены руководителем ГРБ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304920" y="6324480"/>
            <a:ext cx="61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 – в проверяемом периоде данный вид  нарушения не установлен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Скругленный прямоугольник 10"/>
          <p:cNvSpPr/>
          <p:nvPr/>
        </p:nvSpPr>
        <p:spPr>
          <a:xfrm>
            <a:off x="444600" y="182520"/>
            <a:ext cx="8458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ПОЛНОМОЧИЯ ФИНАНСОВОГО УПРАВЛЕНИЯ АДМИНИСТРАЦИИ СЕВЕРО-ЕНИСЕСЙКОГО РАЙОНА ПО ВНУТРЕННЕМУ МУНИЦИПАЛЬНОМУ ФИНАНСОВОМУ КОНТРОЛЮ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ункт 1.14. раздела 1, пункт 2.9. раздел 2 Положения о Финансовом управлении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министрации Северо-Енисейского района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898560" y="1407960"/>
            <a:ext cx="7950240" cy="83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 Box 44"/>
          <p:cNvSpPr/>
          <p:nvPr/>
        </p:nvSpPr>
        <p:spPr>
          <a:xfrm>
            <a:off x="914400" y="152388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троль за соблюдением положений правовых актов, регулирующих бюджетные правоотношения,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том числе устанавливающих требования к бухгалтерскому учету и составлению и представлению бухгалтерской (финансовой) отчетности муниципальных учреждений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898560" y="2398680"/>
            <a:ext cx="7950240" cy="83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Rectangle 48"/>
          <p:cNvSpPr/>
          <p:nvPr/>
        </p:nvSpPr>
        <p:spPr>
          <a:xfrm>
            <a:off x="914400" y="243828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троль за соблюдением положений правовых актов, обусловливающих публичные нормативные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язательства и обязательства по иным выплатам физическим лицам  из бюджета, а также за соблюдением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й договоров (соглашений) о предоставлении средств из бюджета, муниципальных контрактов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898560" y="3389400"/>
            <a:ext cx="7950240" cy="83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Rectangle 54"/>
          <p:cNvSpPr/>
          <p:nvPr/>
        </p:nvSpPr>
        <p:spPr>
          <a:xfrm>
            <a:off x="914400" y="335196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троль за соблюдением условий договоров (соглашений), заключенных в целях исполнения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говоров (соглашений) о предоставлении средств из бюджета, а также в случаях,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усмотренных БК РФ, условий договоров (соглашений), заключенных в целях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полнения муниципальных контрактов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898560" y="4379760"/>
            <a:ext cx="7950240" cy="83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Rectangle 58"/>
          <p:cNvSpPr/>
          <p:nvPr/>
        </p:nvSpPr>
        <p:spPr>
          <a:xfrm>
            <a:off x="914400" y="434268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троль за достоверностью отчетов о результатах предоставления и (или) использования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юджетных средств (средств, предоставленных из бюджета), в том числе отчетов о реализации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ых программ, отчетов об исполнении муниципальных заданий,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четов о достижении значений показателей результативности предоставления средств из бюджета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898560" y="5370480"/>
            <a:ext cx="7950240" cy="83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Rectangle 62"/>
          <p:cNvSpPr/>
          <p:nvPr/>
        </p:nvSpPr>
        <p:spPr>
          <a:xfrm>
            <a:off x="1371600" y="553176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троль в сфере закупок, предусмотренный законодательством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 контрактной системе в сфере закупок товаров, работ, услуг для обеспечения муниципальных нужд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Line 63"/>
          <p:cNvSpPr/>
          <p:nvPr/>
        </p:nvSpPr>
        <p:spPr>
          <a:xfrm>
            <a:off x="533520" y="1295280"/>
            <a:ext cx="0" cy="457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Line 64"/>
          <p:cNvSpPr/>
          <p:nvPr/>
        </p:nvSpPr>
        <p:spPr>
          <a:xfrm>
            <a:off x="533520" y="5867280"/>
            <a:ext cx="3808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Line 65"/>
          <p:cNvSpPr/>
          <p:nvPr/>
        </p:nvSpPr>
        <p:spPr>
          <a:xfrm>
            <a:off x="533520" y="4800600"/>
            <a:ext cx="3808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Line 66"/>
          <p:cNvSpPr/>
          <p:nvPr/>
        </p:nvSpPr>
        <p:spPr>
          <a:xfrm>
            <a:off x="533520" y="3809880"/>
            <a:ext cx="3808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Line 67"/>
          <p:cNvSpPr/>
          <p:nvPr/>
        </p:nvSpPr>
        <p:spPr>
          <a:xfrm>
            <a:off x="533520" y="2819520"/>
            <a:ext cx="3808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Line 68"/>
          <p:cNvSpPr/>
          <p:nvPr/>
        </p:nvSpPr>
        <p:spPr>
          <a:xfrm>
            <a:off x="533520" y="1828800"/>
            <a:ext cx="3808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369720" y="169920"/>
            <a:ext cx="8234640" cy="669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99ff"/>
              </a:gs>
            </a:gsLst>
            <a:lin ang="5400000"/>
          </a:gradFill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ОВОЕ РЕГУЛИРОВАНИ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УТРЕННЕГО МУНИЦИПАЛЬНОГО ФИНАНСОВОГО КОНТРО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лава 26 Бюджетного кодекса Российской Федерации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809880" y="58672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5105520" y="1897200"/>
            <a:ext cx="167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AutoShape 28"/>
          <p:cNvSpPr/>
          <p:nvPr/>
        </p:nvSpPr>
        <p:spPr>
          <a:xfrm>
            <a:off x="380880" y="914400"/>
            <a:ext cx="8229600" cy="380880"/>
          </a:xfrm>
          <a:prstGeom prst="flowChartAlternateProcess">
            <a:avLst/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ые  стандарты внутреннего государственного (муниципального)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AutoShape 28"/>
          <p:cNvSpPr/>
          <p:nvPr/>
        </p:nvSpPr>
        <p:spPr>
          <a:xfrm>
            <a:off x="533520" y="1371600"/>
            <a:ext cx="8076960" cy="6094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ципы контрольной деятельности органов внутреннего государственного (муниципального)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ого контроля (утв. постановлением Правительства РФ от 06.02.2020 № 95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533520" y="2057400"/>
            <a:ext cx="8076960" cy="9144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а и обязанности должностных лиц органов  внутреннего государственного (муниципального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ого контроля и объектов внутреннего  государственного (муниципального) финансового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оля (их должностных лиц) при осуществлении внутреннего государственного (муниципального)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ого контроля (утв. постановлением Правительства РФ от 06.02.2020 № 100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AutoShape 28"/>
          <p:cNvSpPr/>
          <p:nvPr/>
        </p:nvSpPr>
        <p:spPr>
          <a:xfrm>
            <a:off x="533520" y="3048120"/>
            <a:ext cx="8076960" cy="6094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ланирование  проверок, ревизий и обследований (утв. постановлением Правительства РФ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27.02.2020 № 208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AutoShape 28"/>
          <p:cNvSpPr/>
          <p:nvPr/>
        </p:nvSpPr>
        <p:spPr>
          <a:xfrm>
            <a:off x="533520" y="3733920"/>
            <a:ext cx="8076960" cy="6094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ведение проверок, ревизий и обследований и оформление их результатов (утв. постановлением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ительства РФ от 17.08.2020 № 1235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AutoShape 28"/>
          <p:cNvSpPr/>
          <p:nvPr/>
        </p:nvSpPr>
        <p:spPr>
          <a:xfrm>
            <a:off x="533520" y="4419720"/>
            <a:ext cx="8076960" cy="6094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ализация результатов проверок, ревизий и обследований (утв. постановлением Правительства РФ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23.07.2020 № 1095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AutoShape 28"/>
          <p:cNvSpPr/>
          <p:nvPr/>
        </p:nvSpPr>
        <p:spPr>
          <a:xfrm>
            <a:off x="533520" y="5105520"/>
            <a:ext cx="8076960" cy="76176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ила досудебного обжалования решений и действий (бездействия) органов внутреннего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сударственного (муниципального) финансового контроля и их должностных лиц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утв. постановлением Правительства РФ от 17.08.2020 № 1237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AutoShape 28"/>
          <p:cNvSpPr/>
          <p:nvPr/>
        </p:nvSpPr>
        <p:spPr>
          <a:xfrm>
            <a:off x="533520" y="5943600"/>
            <a:ext cx="8076960" cy="6094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ила составления отчетности о результатах контрольной деятельности (утв. постановлением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ительства РФ от 16.09.2020 № 1478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295280"/>
            <a:ext cx="0" cy="495324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6248520"/>
            <a:ext cx="76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486400"/>
            <a:ext cx="7632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486400"/>
            <a:ext cx="76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724280"/>
            <a:ext cx="76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038480"/>
            <a:ext cx="76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3352680"/>
            <a:ext cx="76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2514600"/>
            <a:ext cx="76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1676520"/>
            <a:ext cx="76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68400" y="318960"/>
            <a:ext cx="9007200" cy="393840"/>
          </a:xfrm>
          <a:prstGeom prst="rect">
            <a:avLst/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ОРГАНИЗАЦИЯ И РЕАЛИЗАЦИЯ ВНУТРЕННЕГО МУНИЦИПАЛЬНОГО ФИНАНСОВОГО КОНТРОЛ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AutoShape 11"/>
          <p:cNvSpPr/>
          <p:nvPr/>
        </p:nvSpPr>
        <p:spPr>
          <a:xfrm>
            <a:off x="152280" y="838080"/>
            <a:ext cx="807732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50000">
                <a:srgbClr val="dddddd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ланирование контрольных мероприяти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2133720"/>
            <a:ext cx="8153640" cy="45720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Times New Roman"/>
              </a:rPr>
              <a:t>Проведение контрольных мероприяти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152280" y="3429000"/>
            <a:ext cx="8077320" cy="45720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ализация результатов контрольных мероприяти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AutoShape 33"/>
          <p:cNvSpPr/>
          <p:nvPr/>
        </p:nvSpPr>
        <p:spPr>
          <a:xfrm>
            <a:off x="152280" y="1371600"/>
            <a:ext cx="2743200" cy="685800"/>
          </a:xfrm>
          <a:prstGeom prst="rightArrowCallout">
            <a:avLst>
              <a:gd name="adj1" fmla="val 25002"/>
              <a:gd name="adj2" fmla="val 25000"/>
              <a:gd name="adj3" fmla="val 66667"/>
              <a:gd name="adj4" fmla="val 6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ормирование исходных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анных для составления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екта плана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онтрольных мероприятий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AutoShape 34"/>
          <p:cNvSpPr/>
          <p:nvPr/>
        </p:nvSpPr>
        <p:spPr>
          <a:xfrm>
            <a:off x="2971800" y="1371600"/>
            <a:ext cx="2819520" cy="685800"/>
          </a:xfrm>
          <a:prstGeom prst="rightArrowCallout">
            <a:avLst>
              <a:gd name="adj1" fmla="val 25002"/>
              <a:gd name="adj2" fmla="val 25000"/>
              <a:gd name="adj3" fmla="val 68521"/>
              <a:gd name="adj4" fmla="val 66667"/>
            </a:avLst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ставление проекта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на контрольных мероприятий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 применением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иск-ориентированного подхода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AutoShape 36"/>
          <p:cNvSpPr/>
          <p:nvPr/>
        </p:nvSpPr>
        <p:spPr>
          <a:xfrm>
            <a:off x="152280" y="2666880"/>
            <a:ext cx="2743200" cy="685800"/>
          </a:xfrm>
          <a:prstGeom prst="rightArrowCallout">
            <a:avLst>
              <a:gd name="adj1" fmla="val 25002"/>
              <a:gd name="adj2" fmla="val 25000"/>
              <a:gd name="adj3" fmla="val 66667"/>
              <a:gd name="adj4" fmla="val 6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66ff"/>
                </a:solidFill>
                <a:latin typeface="Times New Roman"/>
              </a:rPr>
              <a:t>Назначение контрольного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66ff"/>
                </a:solidFill>
                <a:latin typeface="Times New Roman"/>
              </a:rPr>
              <a:t>мероприятия и подготовку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ff"/>
                </a:solidFill>
                <a:latin typeface="Times New Roman"/>
              </a:rPr>
              <a:t>к его проведению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AutoShape 37"/>
          <p:cNvSpPr/>
          <p:nvPr/>
        </p:nvSpPr>
        <p:spPr>
          <a:xfrm>
            <a:off x="2971800" y="2666880"/>
            <a:ext cx="2819520" cy="685800"/>
          </a:xfrm>
          <a:prstGeom prst="rightArrowCallout">
            <a:avLst>
              <a:gd name="adj1" fmla="val 25002"/>
              <a:gd name="adj2" fmla="val 25000"/>
              <a:gd name="adj3" fmla="val 68521"/>
              <a:gd name="adj4" fmla="val 6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66ff"/>
                </a:solidFill>
                <a:latin typeface="Times New Roman"/>
              </a:rPr>
              <a:t>Проведение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ff"/>
                </a:solidFill>
                <a:latin typeface="Times New Roman"/>
              </a:rPr>
              <a:t>контрольного мероприятия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Rectangle 43"/>
          <p:cNvSpPr/>
          <p:nvPr/>
        </p:nvSpPr>
        <p:spPr>
          <a:xfrm>
            <a:off x="152280" y="3962520"/>
            <a:ext cx="8001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материалов контрольного мероприятия руководителем Финансового управления и принятие решения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AutoShape 46"/>
          <p:cNvSpPr/>
          <p:nvPr/>
        </p:nvSpPr>
        <p:spPr>
          <a:xfrm>
            <a:off x="152280" y="4267080"/>
            <a:ext cx="2286000" cy="990720"/>
          </a:xfrm>
          <a:prstGeom prst="downArrowCallout">
            <a:avLst>
              <a:gd name="adj1" fmla="val 57691"/>
              <a:gd name="adj2" fmla="val 5768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 наличии или об отсутствии оснований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направления представления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 (или) предписания объекту контроля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AutoShape 47"/>
          <p:cNvSpPr/>
          <p:nvPr/>
        </p:nvSpPr>
        <p:spPr>
          <a:xfrm>
            <a:off x="2514600" y="4267080"/>
            <a:ext cx="3200400" cy="990720"/>
          </a:xfrm>
          <a:prstGeom prst="downArrowCallout">
            <a:avLst>
              <a:gd name="adj1" fmla="val 80767"/>
              <a:gd name="adj2" fmla="val 80759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 наличии или об отсутствии оснований для направления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формации в правоохранительные органы, органы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куратуры и иные государственные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муниципальные) органы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AutoShape 48"/>
          <p:cNvSpPr/>
          <p:nvPr/>
        </p:nvSpPr>
        <p:spPr>
          <a:xfrm>
            <a:off x="5791320" y="4267080"/>
            <a:ext cx="2361960" cy="990720"/>
          </a:xfrm>
          <a:prstGeom prst="downArrowCallout">
            <a:avLst>
              <a:gd name="adj1" fmla="val 59608"/>
              <a:gd name="adj2" fmla="val 59602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 наличии или об отсутствии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снований для назначения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неплановой выездной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верки (ревизии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Rectangle 49"/>
          <p:cNvSpPr/>
          <p:nvPr/>
        </p:nvSpPr>
        <p:spPr>
          <a:xfrm>
            <a:off x="152280" y="5334120"/>
            <a:ext cx="8001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и направление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AutoShape 50"/>
          <p:cNvSpPr/>
          <p:nvPr/>
        </p:nvSpPr>
        <p:spPr>
          <a:xfrm>
            <a:off x="152280" y="5638680"/>
            <a:ext cx="2286000" cy="533520"/>
          </a:xfrm>
          <a:prstGeom prst="downArrowCallout">
            <a:avLst>
              <a:gd name="adj1" fmla="val 107129"/>
              <a:gd name="adj2" fmla="val 107119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едставления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 (или) предписания объекту контроля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AutoShape 51"/>
          <p:cNvSpPr/>
          <p:nvPr/>
        </p:nvSpPr>
        <p:spPr>
          <a:xfrm>
            <a:off x="2514600" y="5638680"/>
            <a:ext cx="3200400" cy="533520"/>
          </a:xfrm>
          <a:prstGeom prst="downArrowCallout">
            <a:avLst>
              <a:gd name="adj1" fmla="val 149980"/>
              <a:gd name="adj2" fmla="val 149966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формации в правоохранительные органы, органы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куратуры и иные государственные (муниципальные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ганы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AutoShape 52"/>
          <p:cNvSpPr/>
          <p:nvPr/>
        </p:nvSpPr>
        <p:spPr>
          <a:xfrm>
            <a:off x="5791320" y="5638680"/>
            <a:ext cx="2361960" cy="533520"/>
          </a:xfrm>
          <a:prstGeom prst="downArrowCallout">
            <a:avLst>
              <a:gd name="adj1" fmla="val 110688"/>
              <a:gd name="adj2" fmla="val 110678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каза назначении внепланового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онтрольного мероприятия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Rectangle 53"/>
          <p:cNvSpPr/>
          <p:nvPr/>
        </p:nvSpPr>
        <p:spPr>
          <a:xfrm>
            <a:off x="233280" y="6248520"/>
            <a:ext cx="8001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за исполнением объектами контроля представлений и предписаний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1371600"/>
            <a:ext cx="22860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тверждение плана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онтрольных мероприятий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лан работы Финансового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правления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2666880"/>
            <a:ext cx="2286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Times New Roman"/>
              </a:rPr>
              <a:t>Утверждение плана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ff"/>
                </a:solidFill>
                <a:latin typeface="Times New Roman"/>
              </a:rPr>
              <a:t>контрольных мероприятий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ff"/>
                </a:solidFill>
                <a:latin typeface="Times New Roman"/>
              </a:rPr>
              <a:t>(План работы Финансового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Times New Roman"/>
              </a:rPr>
              <a:t>управления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Rectangle 4"/>
          <p:cNvGrpSpPr/>
          <p:nvPr/>
        </p:nvGrpSpPr>
        <p:grpSpPr>
          <a:xfrm>
            <a:off x="0" y="192240"/>
            <a:ext cx="9143640" cy="609480"/>
            <a:chOff x="0" y="192240"/>
            <a:chExt cx="9143640" cy="609480"/>
          </a:xfrm>
        </p:grpSpPr>
        <p:pic>
          <p:nvPicPr>
            <p:cNvPr id="325" name="Rectangle 4" descr=""/>
            <p:cNvPicPr/>
            <p:nvPr/>
          </p:nvPicPr>
          <p:blipFill>
            <a:blip r:embed="rId1"/>
            <a:stretch/>
          </p:blipFill>
          <p:spPr>
            <a:xfrm>
              <a:off x="0" y="192240"/>
              <a:ext cx="9143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6"/>
            <p:cNvSpPr/>
            <p:nvPr/>
          </p:nvSpPr>
          <p:spPr>
            <a:xfrm>
              <a:off x="67680" y="212760"/>
              <a:ext cx="9007920" cy="520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cc"/>
                  </a:solidFill>
                  <a:latin typeface="Times New Roman"/>
                </a:rPr>
                <a:t>ИТОГИ РЕАЛИЗАЦИИ ПОЛНОМОЧИЙ ПО ВНУТРЕННЕМУ МУНИЦИПАЛЬНОМУ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cc"/>
                  </a:solidFill>
                  <a:latin typeface="Times New Roman"/>
                </a:rPr>
                <a:t>ФИНАНСОВОМУ КОНТРОЛЮ ЗА 2020 ГОД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7" name="AutoShape 12"/>
          <p:cNvSpPr/>
          <p:nvPr/>
        </p:nvSpPr>
        <p:spPr>
          <a:xfrm>
            <a:off x="914400" y="914400"/>
            <a:ext cx="7620120" cy="533520"/>
          </a:xfrm>
          <a:prstGeom prst="foldedCorner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Количество объектов контроля, подлежащих проверке в соответствии с планом работ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Финансового управления администрации Северо-Енисейского район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AutoShape 13"/>
          <p:cNvSpPr/>
          <p:nvPr/>
        </p:nvSpPr>
        <p:spPr>
          <a:xfrm>
            <a:off x="685800" y="1676520"/>
            <a:ext cx="3809880" cy="914400"/>
          </a:xfrm>
          <a:prstGeom prst="foldedCorner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Количество проведенных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imes New Roman"/>
              </a:rPr>
              <a:t>плановых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проверок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AutoShape 14"/>
          <p:cNvSpPr/>
          <p:nvPr/>
        </p:nvSpPr>
        <p:spPr>
          <a:xfrm>
            <a:off x="4800600" y="1676520"/>
            <a:ext cx="3809880" cy="914400"/>
          </a:xfrm>
          <a:prstGeom prst="foldedCorner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Количество проведенны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imes New Roman"/>
              </a:rPr>
              <a:t>внеплановых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 проверок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2209680" y="2743200"/>
            <a:ext cx="4343400" cy="685800"/>
          </a:xfrm>
          <a:prstGeom prst="foldedCorner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imes New Roman"/>
              </a:rPr>
              <a:t>Количество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 актов, составленны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по результатам проверок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Oval 20"/>
          <p:cNvSpPr/>
          <p:nvPr/>
        </p:nvSpPr>
        <p:spPr>
          <a:xfrm>
            <a:off x="3505320" y="2057400"/>
            <a:ext cx="4572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Oval 21"/>
          <p:cNvSpPr/>
          <p:nvPr/>
        </p:nvSpPr>
        <p:spPr>
          <a:xfrm>
            <a:off x="7467480" y="1143000"/>
            <a:ext cx="4572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Oval 22"/>
          <p:cNvSpPr/>
          <p:nvPr/>
        </p:nvSpPr>
        <p:spPr>
          <a:xfrm>
            <a:off x="7696080" y="2057400"/>
            <a:ext cx="4572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Oval 23"/>
          <p:cNvSpPr/>
          <p:nvPr/>
        </p:nvSpPr>
        <p:spPr>
          <a:xfrm>
            <a:off x="5410080" y="3048120"/>
            <a:ext cx="4572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AutoShape 24"/>
          <p:cNvSpPr/>
          <p:nvPr/>
        </p:nvSpPr>
        <p:spPr>
          <a:xfrm>
            <a:off x="609480" y="3657600"/>
            <a:ext cx="3353040" cy="914400"/>
          </a:xfrm>
          <a:prstGeom prst="foldedCorner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Количество проверок, в которы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установлены факты нарушени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(уд. вес от общего количеств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проверок 59%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Oval 25"/>
          <p:cNvSpPr/>
          <p:nvPr/>
        </p:nvSpPr>
        <p:spPr>
          <a:xfrm>
            <a:off x="3505320" y="4114800"/>
            <a:ext cx="3808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AutoShape 26"/>
          <p:cNvSpPr/>
          <p:nvPr/>
        </p:nvSpPr>
        <p:spPr>
          <a:xfrm>
            <a:off x="5181480" y="3657600"/>
            <a:ext cx="3429000" cy="914400"/>
          </a:xfrm>
          <a:prstGeom prst="foldedCorner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Количество проверок, в которы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не установлены факты нарушений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(уд. вес от общего количеств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проверок 41%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Oval 27"/>
          <p:cNvSpPr/>
          <p:nvPr/>
        </p:nvSpPr>
        <p:spPr>
          <a:xfrm>
            <a:off x="8077320" y="4114800"/>
            <a:ext cx="3808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AutoShape 28"/>
          <p:cNvSpPr/>
          <p:nvPr/>
        </p:nvSpPr>
        <p:spPr>
          <a:xfrm>
            <a:off x="609480" y="4800600"/>
            <a:ext cx="1905120" cy="838080"/>
          </a:xfrm>
          <a:prstGeom prst="foldedCorner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Количество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предписаний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направленны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объектам контрол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Oval 30"/>
          <p:cNvSpPr/>
          <p:nvPr/>
        </p:nvSpPr>
        <p:spPr>
          <a:xfrm>
            <a:off x="2133720" y="5181480"/>
            <a:ext cx="3808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1" name="AutoShape 46"/>
          <p:cNvCxnSpPr>
            <a:stCxn id="328" idx="1"/>
            <a:endCxn id="330" idx="1"/>
          </p:cNvCxnSpPr>
          <p:nvPr/>
        </p:nvCxnSpPr>
        <p:spPr>
          <a:xfrm flipH="1" flipV="1" rot="10800000">
            <a:off x="684720" y="2133360"/>
            <a:ext cx="1524600" cy="953280"/>
          </a:xfrm>
          <a:prstGeom prst="bentConnector3">
            <a:avLst>
              <a:gd name="adj1" fmla="val -14997"/>
            </a:avLst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2" name="AutoShape 48"/>
          <p:cNvCxnSpPr>
            <a:stCxn id="329" idx="3"/>
            <a:endCxn id="330" idx="3"/>
          </p:cNvCxnSpPr>
          <p:nvPr/>
        </p:nvCxnSpPr>
        <p:spPr>
          <a:xfrm flipH="1">
            <a:off x="6552720" y="2133720"/>
            <a:ext cx="2057760" cy="953280"/>
          </a:xfrm>
          <a:prstGeom prst="bentConnector3">
            <a:avLst>
              <a:gd name="adj1" fmla="val -11111"/>
            </a:avLst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3" name="AutoShape 49"/>
          <p:cNvCxnSpPr>
            <a:stCxn id="330" idx="2"/>
            <a:endCxn id="335" idx="3"/>
          </p:cNvCxnSpPr>
          <p:nvPr/>
        </p:nvCxnSpPr>
        <p:spPr>
          <a:xfrm rot="5400000">
            <a:off x="3828600" y="3562200"/>
            <a:ext cx="686520" cy="419760"/>
          </a:xfrm>
          <a:prstGeom prst="bentConnector2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4" name="AutoShape 51"/>
          <p:cNvCxnSpPr>
            <a:endCxn id="337" idx="1"/>
          </p:cNvCxnSpPr>
          <p:nvPr/>
        </p:nvCxnSpPr>
        <p:spPr>
          <a:xfrm flipH="1" rot="16200000">
            <a:off x="4609800" y="3542760"/>
            <a:ext cx="686520" cy="457920"/>
          </a:xfrm>
          <a:prstGeom prst="bentConnector2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5" name="Line 53"/>
          <p:cNvSpPr/>
          <p:nvPr/>
        </p:nvSpPr>
        <p:spPr>
          <a:xfrm flipH="1">
            <a:off x="1905120" y="4572000"/>
            <a:ext cx="76176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AutoShape 57"/>
          <p:cNvSpPr/>
          <p:nvPr/>
        </p:nvSpPr>
        <p:spPr>
          <a:xfrm>
            <a:off x="609480" y="5715000"/>
            <a:ext cx="8077320" cy="990720"/>
          </a:xfrm>
          <a:prstGeom prst="foldedCorner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Направление информации в Управление Федеральной антимонопольной службы по Красноярскому краю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службу финансово-экономического контроля и контроля в сфере закупок Красноярского кра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о выявлении у объектов контроля фактов нарушений, за которые предусмотрен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административная ответственность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Oval 59"/>
          <p:cNvSpPr/>
          <p:nvPr/>
        </p:nvSpPr>
        <p:spPr>
          <a:xfrm>
            <a:off x="6095880" y="6477120"/>
            <a:ext cx="3812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Line 62"/>
          <p:cNvSpPr/>
          <p:nvPr/>
        </p:nvSpPr>
        <p:spPr>
          <a:xfrm>
            <a:off x="2209680" y="144792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AutoShape 28"/>
          <p:cNvSpPr/>
          <p:nvPr/>
        </p:nvSpPr>
        <p:spPr>
          <a:xfrm>
            <a:off x="2819520" y="4800600"/>
            <a:ext cx="1981080" cy="838080"/>
          </a:xfrm>
          <a:prstGeom prst="foldedCorner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Количество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представлений,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направленны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объектам контрол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Oval 30"/>
          <p:cNvSpPr/>
          <p:nvPr/>
        </p:nvSpPr>
        <p:spPr>
          <a:xfrm>
            <a:off x="4419720" y="5181480"/>
            <a:ext cx="3808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Line 53"/>
          <p:cNvSpPr/>
          <p:nvPr/>
        </p:nvSpPr>
        <p:spPr>
          <a:xfrm>
            <a:off x="2666880" y="4572000"/>
            <a:ext cx="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Line 53"/>
          <p:cNvSpPr/>
          <p:nvPr/>
        </p:nvSpPr>
        <p:spPr>
          <a:xfrm>
            <a:off x="2666880" y="4572000"/>
            <a:ext cx="76212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5257800" y="4800600"/>
            <a:ext cx="3352680" cy="838080"/>
          </a:xfrm>
          <a:prstGeom prst="foldedCorner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Количество проверок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в которых нарушения устранен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в период проверки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Oval 30"/>
          <p:cNvSpPr/>
          <p:nvPr/>
        </p:nvSpPr>
        <p:spPr>
          <a:xfrm>
            <a:off x="7696080" y="5334120"/>
            <a:ext cx="3812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666880" y="4572000"/>
            <a:ext cx="266724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Объект 3"/>
          <p:cNvGraphicFramePr/>
          <p:nvPr/>
        </p:nvGraphicFramePr>
        <p:xfrm>
          <a:off x="685800" y="1908000"/>
          <a:ext cx="2919240" cy="211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8000"/>
                    <a:ext cx="291924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304920" y="1371600"/>
          <a:ext cx="6476760" cy="373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371600"/>
                    <a:ext cx="64767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4419720" y="2133720"/>
            <a:ext cx="3962160" cy="8380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ъем расходов бюджет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веро-Енисейского район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2020 год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2 113 354,0 тыс.руб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"/>
          <p:cNvSpPr/>
          <p:nvPr/>
        </p:nvSpPr>
        <p:spPr>
          <a:xfrm>
            <a:off x="4419720" y="990720"/>
            <a:ext cx="3962160" cy="990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ъем проверенных средств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юджета Северо-Енисейского район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2020 год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744 509,0 тыс.руб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1981080"/>
            <a:ext cx="27432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верено –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44 509,0 тыс.руб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63" name="Rectangle 4"/>
          <p:cNvGrpSpPr/>
          <p:nvPr/>
        </p:nvGrpSpPr>
        <p:grpSpPr>
          <a:xfrm>
            <a:off x="0" y="0"/>
            <a:ext cx="8915400" cy="838080"/>
            <a:chOff x="0" y="0"/>
            <a:chExt cx="8915400" cy="838080"/>
          </a:xfrm>
        </p:grpSpPr>
        <p:pic>
          <p:nvPicPr>
            <p:cNvPr id="364" name="Rectangle 4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9154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6"/>
            <p:cNvSpPr/>
            <p:nvPr/>
          </p:nvSpPr>
          <p:spPr>
            <a:xfrm>
              <a:off x="65880" y="20880"/>
              <a:ext cx="8782920" cy="73332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cc"/>
                  </a:solidFill>
                  <a:latin typeface="Times New Roman"/>
                </a:rPr>
                <a:t>ИСПОЛНЕНИЕ ПОКАЗАТЕЛЕЙ МУНИЦИПАЛЬНОЙ ПРОГРАММЫ СЕВЕРО-ЕНИСЕЙСКОГО РАЙОНА «УПРАВЛЕНИЕ МУНИЦИПАЛЬНЫМИ ФИНАНСАМИ»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cc"/>
                  </a:solidFill>
                  <a:latin typeface="Times New Roman"/>
                </a:rPr>
                <a:t>В ЧАСТИ ВНУТРЕННЕГО МУНИЦИПАЛЬНОГО ФИНАНСОВОГО КОНТРОЛЯ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276720" y="51814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ичество фактически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веденных проверок – 69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3124080"/>
            <a:ext cx="3962160" cy="990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тношение объема проверенны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ств бюджета района к общему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ъему расходов бюджет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веро-Енисейского района – 35%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"/>
          <p:cNvSpPr/>
          <p:nvPr/>
        </p:nvSpPr>
        <p:spPr>
          <a:xfrm>
            <a:off x="62485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51814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ичество запланированны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верок – 57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1814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тношение количеств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ически проведенны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верок к количеству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ланированных – 121%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"/>
          <p:cNvSpPr/>
          <p:nvPr/>
        </p:nvSpPr>
        <p:spPr>
          <a:xfrm>
            <a:off x="5943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9907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ъем средств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го – 2 113 354,0 тыс.руб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4" descr=""/>
          <p:cNvPicPr/>
          <p:nvPr/>
        </p:nvPicPr>
        <p:blipFill>
          <a:blip r:embed="rId1"/>
          <a:stretch/>
        </p:blipFill>
        <p:spPr>
          <a:xfrm>
            <a:off x="-73080" y="96840"/>
            <a:ext cx="9290160" cy="7509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7"/>
          <p:cNvSpPr/>
          <p:nvPr/>
        </p:nvSpPr>
        <p:spPr>
          <a:xfrm>
            <a:off x="152280" y="285840"/>
            <a:ext cx="8839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ЕЕСТР ВИДОВ НАРУШЕНИЙ ПО ВНУТРЕННЕМУ МУНИПАЛЬНОМУ ФИНАНСОВОМУ КОНТРОЛЮ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 2020 ГОД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52280" y="838080"/>
          <a:ext cx="8839440" cy="5745240"/>
        </p:xfrm>
        <a:graphic>
          <a:graphicData uri="http://schemas.openxmlformats.org/drawingml/2006/table">
            <a:tbl>
              <a:tblPr/>
              <a:tblGrid>
                <a:gridCol w="639720"/>
                <a:gridCol w="6740640"/>
                <a:gridCol w="696960"/>
                <a:gridCol w="762120"/>
              </a:tblGrid>
              <a:tr h="76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нару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объектов контроля, допустивших наруш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за достоверностью отчетов о результатах предоставления и (или) использования бюджетных средств (средств, предоставленных из бюджета), в том числе отчетов о реализации государственных (муниципальных) программ, отчетов об исполнении государственных (муниципальных) заданий, отчетов о достижении значений показателей результативности предоставления средств из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требований, установленных постановлениями администрации Северо-Енисейского района от 14.04.2011 № 165-п, от 11.10.2015 № 624-п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подтверждена достоверность отчета об исполнении муниципального зад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ачественно сформированы показатели отчета об исполнении муниципального зад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ыполнено муниципальное задание в части оказания некоторых муниципаль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рректно и некачественно сформирован сводный отчет о фактическом исполнении муниципальных заданий муниципальными учреждения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оверный сводный отчет о фактическом исполнении муниципальных заданий муниципальными учреждениями предоставлен в Финансовое управление администрации Северо-Енисей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228600" y="457200"/>
          <a:ext cx="8763120" cy="6210360"/>
        </p:xfrm>
        <a:graphic>
          <a:graphicData uri="http://schemas.openxmlformats.org/drawingml/2006/table">
            <a:tbl>
              <a:tblPr/>
              <a:tblGrid>
                <a:gridCol w="609480"/>
                <a:gridCol w="6694560"/>
                <a:gridCol w="696960"/>
                <a:gridCol w="7621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ачественно и недостоверно проведен мониторинг исполнения муниципального зад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беспечен качественный и своевременный контроль за выполнением муниципального задания подведомственным учреждени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произведено снижение объема выплат стимулирующего характера руководителю муниципального бюджетного учреждения в связи с невыполнением муниципально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рушение статьи 34 Бюджетного кодекса Российской Федерации допущено неэффективное использование бюджетных средств, в части средств субсидии юридическим лица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Порядка предоставления субсидии на возмещение фактически понесенных затрат, утвержденного постановлением администрации Северо-Енисейского района, от 21.10.2013 № 515-п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беспечена качественная документарная проверка отчета об использовании средств субсидии и отчета о фактически понесенных затрата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оверно сформированы показатели отчета об использовании средств субсидии, отчета о фактически понесенных затрата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за соблюдением условий договоров (соглашений), заключенных в целях исполнения договоров (соглашений) о предоставлении средств из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Порядка предоставления субсидии на возмещение фактически понесенных затрат, утвержденного постановлением администрации Северо-Енисейского района, от 21.10.2013 № 514-п и соглашения о предоставлении субсидии на возмещение затра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Rectangle 144"/>
          <p:cNvSpPr/>
          <p:nvPr/>
        </p:nvSpPr>
        <p:spPr>
          <a:xfrm>
            <a:off x="7160040" y="7632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152280" y="457200"/>
          <a:ext cx="8839440" cy="5689440"/>
        </p:xfrm>
        <a:graphic>
          <a:graphicData uri="http://schemas.openxmlformats.org/drawingml/2006/table">
            <a:tbl>
              <a:tblPr/>
              <a:tblGrid>
                <a:gridCol w="639720"/>
                <a:gridCol w="6751800"/>
                <a:gridCol w="685800"/>
                <a:gridCol w="7621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беспечена качественная документарная проверка справки о фактическом объеме доставленных в район продуктов питания и фактическом размере транспортно–заготовительных расход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оверно сформированы показатели справки о фактическом объеме доставленных в район продуктов питания и фактическом размере транспортно–заготовительных расход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за соблюдением положений правовых актов, регулирующих бюджетные правоотношения, в том числе устанавливающих требования к бухгалтерскому учету и составлению и представлению бухгалтерской (финансовой) отчетности государственных (муниципальных) учре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Положений об оплате труда, утвержденными нормативными правовыми актами администрации Северо-Енисейского райо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основанно и неправомерно начислена заработная плата в части стимулирующих выпл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щена недоплата заработной платы в части стимулирующих выпл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беспечено издание приказов для начисления стимулирующих выпл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рушение правовых актов администрации Северо-Енисейского района, устанавливающих особенности применения Положений об оплате труда (в условиях распространения новой коронавирусной инфекции, вызванной 2019- nCoV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беспечен качественный и достоверный расчет стимулирующих выплат, при оценке результативности и качества труда работников были применены критерии, которые фактически не были достигну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Rectangle 144"/>
          <p:cNvSpPr/>
          <p:nvPr/>
        </p:nvSpPr>
        <p:spPr>
          <a:xfrm>
            <a:off x="7160040" y="15228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rabota</cp:lastModifiedBy>
  <dcterms:modified xsi:type="dcterms:W3CDTF">2021-02-01T03:19:44Z</dcterms:modified>
  <cp:revision>5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